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59B-98E5-4AB5-AE9D-4A8733E4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F7E-9A39-4FBA-92A6-BDECCE27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DE71-00F0-44C3-9BD0-5E585711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A959-4F69-4443-8BC0-E5EC64FF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70D9-1F3D-419E-AFC0-2BE0D2E8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35D-1014-4C76-A583-29A7A3C6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D23D-A1D7-4C9F-951D-4088F08B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31E-6E73-49BE-9C93-4121962D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49C9-F81B-466A-A78D-769CB9AA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574D-145E-441A-96BD-872C24E0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705-7B18-4CC6-B7B8-F7404B46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A338-1227-4AC0-B440-B1AA16A5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7639-60BB-4568-B4C0-2BAA3D3B2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CTÓNICA      Y      PAI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FACTORES   MAS  IMPORTANTES   QUE   INFLUENCIA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VOLUCIÓN   DEL   PAISAJE    TERRESTR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ON:    (1)  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MPLAZAMIENTO  TECTÓN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(2)     EL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CLI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Y    (3)  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ROSIÓN  DIF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UDO  CONTINENTA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ULTA  DE  LA  FORMACIÓN  D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UN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DENA  DE  MONTAÑA  PLEGADA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FORMADA  EN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RGEN  DE  PLACA  CONVERGENT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DE  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ROSIÓ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JUSTE  ISOSTÁTIC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UBSECUENTES  A  QUE  ES  SOMETIDA,    Y  QUE  LA   REDUCEN   HASTA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ÍSO   AMPLIO  DE  SUPERFICIE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MUY  PRÓXIMO  A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IVEL  DEL  M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RELIEVES  LOCALES  EN  UN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UDO  CONTINEN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DE  MENOS  DE  100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  BÁSICAMENTE    DEPENDEN  D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ROSIÓN     DIFERENCI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EN    LAS    ROCAS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GNEAS     Y  METAMÓRF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PAISAJES  DESARROLLADOS  EN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TAFORMA  ESTABLES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ULTAN  TAMBIÉN  DE  LA EROSIÓN   DIFERENCIAL,  PERO   E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OCAS SEDIMENTARI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ORIZONTALES  A  LEVEMENTE   INCLIN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RENAJE  DENTRÍTICO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  COMÚN   EN  LOS ESTRATOS  HORIZONTALES, DÓNDE     PRODUC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COLIN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EDONDEADAS,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UEST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 TÍPIC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LLES   DESPLAZAD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FORMAN   EN  LOS  ESTRATOS  BAJOS  INCLINADOS,   EN  LOS FLANCOS  D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OMOS  ESTRUCTUR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UENCAS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CTÓNICA      Y      PAISAJE  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  LA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CADENAS  DE MONTAÑAS  PLEGADAS ,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ROSIÓN  DIFERENCI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PRODUCE  UNA  SERIE  DE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DG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Y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ALLL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,   CONTROLADOS POR   LA    DIRECCIÓN  ESTRUCTURAL  DE  LOS PLIEGUES.   EL 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PAISAJ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ES  UN  REFLEJO  DE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FT  CONTINENTAL    (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HORST  Y  GRAB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LUVIOS”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BASÁLTICOS :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NICIE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Y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TEA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RCOS  MAGMÁTICOS    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A  EROSIÓN  INTENSA  TERMINA  POR  BORRAR  TODO  VESTIGIO  O  RASGO  VOLCÁNICO,   DEJANDO  EXPUESTAS    LAS  RAICES  DE  ROCAS  INTRUSIVAS  PROFUN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21:36:13Z</dcterms:created>
  <dc:creator>Universidad de Chile</dc:creator>
  <dc:description/>
  <dc:language>en-US</dc:language>
  <cp:lastModifiedBy>Universidad de Chile</cp:lastModifiedBy>
  <dcterms:modified xsi:type="dcterms:W3CDTF">2001-06-27T22:33:18Z</dcterms:modified>
  <cp:revision>2</cp:revision>
  <dc:subject/>
  <dc:title>TECTÓNICA      Y      PAISAJE</dc:title>
</cp:coreProperties>
</file>